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75D-06F7-4CBD-9E94-ADEC53FC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5B8-082C-493C-8E80-43E14B3D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6EB-6AA7-40A1-BDD6-827EA337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479-3157-4196-857A-32EC6F8F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802-50C4-4DB6-B0E8-78FFF314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B72-D964-41E5-95C1-7DA00404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502-F6A9-4DAB-AA4A-94FD4881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3F9-E36C-4277-9AC4-C616E70C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F9D-326D-481A-9B01-C294A798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768-3BD7-410C-92D1-D59EF8BA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F99-D99A-401F-8EEF-6B915C8F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D16-2EA4-439D-AEF3-55EA0AC6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F08D-6D1B-42E6-A6C4-B26C49F37E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4698-B09A-49A9-A827-ABFDFE148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Grafik 1" descr=""/>
          <p:cNvPicPr/>
          <p:nvPr/>
        </p:nvPicPr>
        <p:blipFill>
          <a:blip r:embed="rId2"/>
          <a:stretch/>
        </p:blipFill>
        <p:spPr>
          <a:xfrm>
            <a:off x="611280" y="6524640"/>
            <a:ext cx="41904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20AE-4684-42AB-A955-AD8DA950B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elle Programmierspr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wickelt im Medien-Labor des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257-95A7-4BAF-B448-747B678067B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761DB-3694-49E4-8325-C32F8D1EC0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„AB2.2 Muster zeichnen.pdf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94D-5D9D-4B27-A204-ADEB848D74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C3DFD-F031-485A-B203-A6570807A0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2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ostüm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516480" cy="460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ihr Aussehen änd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E9A-1423-4DA9-97CB-B72CD43347A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3A7AB-D4A7-4DF1-BBF4-4D4566757B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läng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5399280" cy="38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Klänge abspi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082-F4F9-4681-B91D-A8BE176EB9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91839-A162-4C08-AC6E-813F828DD0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 Kostüme + Klä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kt „Kostüme+Klänge.sb2“ vorfü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ostüme erstellen, ändern, im Skript verwenden; Klänge im Skript einfü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560-815C-4C6B-8723-4092779336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2436D-7C44-458D-ABC6-532B368383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408720" cy="86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erste Spiel -&gt;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64000" y="1267920"/>
            <a:ext cx="35388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el für einen Spieler (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bewegt sich auf dem Spielfeld und prallt am Rand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bewegt horizontal mit der Maus einen Schläger, um zu verhindern, dass der Ball den unteren Rand ber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638600" cy="346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576360" cy="428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576360" cy="4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68360" y="1628640"/>
            <a:ext cx="2448000" cy="1224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68360" y="2852640"/>
            <a:ext cx="180000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39640" y="2852640"/>
            <a:ext cx="86364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47640" y="1844640"/>
            <a:ext cx="503280" cy="289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3068280"/>
            <a:ext cx="360360" cy="431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56000" y="3933720"/>
            <a:ext cx="32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92360" y="4724280"/>
            <a:ext cx="22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BA2-FBFE-4D5E-A939-9B8EACC7C1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C455B-D798-48E4-B08A-27B226C6C3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bereitung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zenfigur lö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ühne vorbereiten -&gt; am unteren Rand dünnes farbiges Rechteck 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läger und Ball ergä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 -&gt; aus der Figurenbibliothek hinzufü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läger -&gt; neue Figur zeichnen (ausgefülltes Rechteck; Drehpunkt in die Mitte des Rechtecks setzen; y-Koordinate ungefähr -1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210-2140-4AE9-8212-B921A32F6EC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9DCB2-7B4C-4067-A0E9-1BC2001D6F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139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ripte zur Bewegung der Figuren ergänz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Schläger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5714" r="0" b="0"/>
          <a:stretch/>
        </p:blipFill>
        <p:spPr>
          <a:xfrm>
            <a:off x="1547640" y="3284640"/>
            <a:ext cx="3313440" cy="191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84020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429000"/>
            <a:ext cx="309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chläger ist zu Beginn an der Position (0;-1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ch die Bewegung der Maus kann der Schläger nach links und rechts verschob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B2F-E038-4B42-AEDA-43CAA686F3D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4E631-4290-4661-99B2-0F80ADC349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4896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Ball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4392720" cy="4174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2205000"/>
            <a:ext cx="34560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startet bei der Position (0;160) mit einer zufällig gewählten Richtung zwischen 135° und 225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bewegt sich fortlaufend um 5 Schritte und prallt nach einiger Zeit vom Rand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er Schläger berührt, so wird die Bewegungsrichtung auf einen Wert zwischen -30° und 30° gesetzt und es ertönt ein Aufprall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llt der Ball nach unten, also berührt den farbigen Streifen, so hält das Programm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EB5-EA4A-406F-ABDB-7266C04A84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89AA8-B33A-41A2-AC4C-719DEBC442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ähler einbauen für die Anzahl der „Rückschläge“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w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3CB-85BC-4C20-9136-2EF98AEDAA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C2F68-2DF9-4F39-B1BE-E66F26B970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1628280"/>
            <a:ext cx="4197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altfläche „Dat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ton „Neue Variable“ anklicken und Variablennamen fest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 kann jetzt im Skript verw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03640" cy="3384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1835280" y="1773360"/>
            <a:ext cx="2665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2349360"/>
            <a:ext cx="26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2BE-AEBB-4208-81F2-194F0EEAC8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81B01-4189-4B94-9873-2C972175A7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CC BY-SA 3.0 D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. Bi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56B2-B846-4EA7-B9A4-137655BE2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ipt -&gt; Stapel aus Programmierblö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095640" cy="160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3809880" cy="1229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00720" y="378936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Gerade Verbindung mit Pfeil 2"/>
          <p:cNvCxnSpPr/>
          <p:nvPr/>
        </p:nvCxnSpPr>
        <p:spPr>
          <a:xfrm flipH="1">
            <a:off x="1978920" y="1413000"/>
            <a:ext cx="4323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E67-735F-40E9-B81A-A47BFABB4D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FBA4D-81F4-4F5F-871E-5D9E1437FA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84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ändertes Skript für den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933720" cy="446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629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788000" y="119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ählvariable erscheint links oben auf der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643280" y="148428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63B-00AB-44D2-A13A-5EAE6B48D9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BBAA5-43AB-40E6-AF57-AC6328AD83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echnen in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73672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65440" cy="151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6360" y="17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ennst du ein Muster in diesen Produk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7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nen mit R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960720" cy="153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fallsz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216360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B3D-5379-4DD1-AFBD-F3E9E428CD5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10356-F1E0-4516-8D40-88ACDDD353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hempfeh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supereasy: Einfacher Einstieg in SCRATCH und PYTHON“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310-2700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mit Scratch – Arbeitsheft“, Herdt-Verlag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6249-239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Learn to program with Scratch“, ISBN 978-1-59327-543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FCB2-DA0E-4C68-AB7E-A0A629DF1F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6402D-FA58-44BA-861E-D546607DDC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5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E0E1-4A9C-4991-A7AB-3EB357488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4360" y="404640"/>
            <a:ext cx="5903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ratch Programmierum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>
            <a:alphaModFix amt="0"/>
          </a:blip>
          <a:srcRect l="-5" t="-7" r="-5" b="-7"/>
          <a:stretch/>
        </p:blipFill>
        <p:spPr>
          <a:xfrm>
            <a:off x="826920" y="1700280"/>
            <a:ext cx="6337440" cy="42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7164360" y="1844640"/>
            <a:ext cx="165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üh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Objektli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lock-Palet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cript-F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619280" y="1844640"/>
            <a:ext cx="1440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0"/>
          <p:cNvCxnSpPr/>
          <p:nvPr/>
        </p:nvCxnSpPr>
        <p:spPr>
          <a:xfrm flipV="1" rot="10800000">
            <a:off x="212328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58" name="Text Box 11"/>
          <p:cNvSpPr/>
          <p:nvPr/>
        </p:nvSpPr>
        <p:spPr>
          <a:xfrm>
            <a:off x="270036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-Ba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24360" y="1844640"/>
            <a:ext cx="1008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13"/>
          <p:cNvCxnSpPr/>
          <p:nvPr/>
        </p:nvCxnSpPr>
        <p:spPr>
          <a:xfrm flipV="1" rot="10800000">
            <a:off x="442692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1" name="Text Box 14"/>
          <p:cNvSpPr/>
          <p:nvPr/>
        </p:nvSpPr>
        <p:spPr>
          <a:xfrm>
            <a:off x="5076720" y="105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1"/>
          <p:cNvSpPr/>
          <p:nvPr/>
        </p:nvSpPr>
        <p:spPr>
          <a:xfrm>
            <a:off x="1403280" y="1844640"/>
            <a:ext cx="216000" cy="287280"/>
          </a:xfrm>
          <a:prstGeom prst="ellipse">
            <a:avLst/>
          </a:prstGeom>
          <a:noFill/>
          <a:ln w="507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Gerade Verbindung mit Pfeil 3"/>
          <p:cNvCxnSpPr>
            <a:endCxn id="62" idx="0"/>
          </p:cNvCxnSpPr>
          <p:nvPr/>
        </p:nvCxnSpPr>
        <p:spPr>
          <a:xfrm>
            <a:off x="1510920" y="1347840"/>
            <a:ext cx="1080" cy="497520"/>
          </a:xfrm>
          <a:prstGeom prst="straightConnector1">
            <a:avLst/>
          </a:prstGeom>
          <a:ln w="3168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64" name="Textfeld 4"/>
          <p:cNvSpPr/>
          <p:nvPr/>
        </p:nvSpPr>
        <p:spPr>
          <a:xfrm>
            <a:off x="709560" y="941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ache ä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351-A69F-4A88-8EC4-7778674DCB8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3CDD6-20AB-4493-ADD1-76E93F8463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DF9E-4922-48C4-A0D9-8343A52E8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32400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12000" y="1557360"/>
            <a:ext cx="267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ühne ist wie eine Koordinaten-Ebene mit Punkte (0;0) im Mittelpun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gung des Maus-Cursors zeigt die Koordinaten (x;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16360" cy="42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1297080" cy="34596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 flipH="1">
            <a:off x="6084360" y="515772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BE8-C382-4AE4-8BE7-E90748C284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9BD15-658D-4EAB-965C-33ECDEDA37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68DC-49F9-4B68-9FD8-610C2AF35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686480" cy="4010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11280" y="62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sentationsmo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16000" y="119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76720" y="76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üne Flagge -&gt; Start des Projek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012000" y="17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er Punkt -&gt; Projekt be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536400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932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763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042920" y="9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DA8-8099-4B6D-98AE-19600BE56B6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E55F4-0BEC-456E-9D16-60B554725D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1645-9007-48C3-A35C-5D81D7B38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nl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638600" cy="168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500720" y="2133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 aus Bibliothek 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932360" y="24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Figur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859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076720" y="285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3213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Figur1 mit Button i (linke obere Ecke) für Figur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042920" y="23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die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2555640" y="3716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47636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1116000" y="4365720"/>
            <a:ext cx="863640" cy="431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154764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906120" y="515772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für die Erstellung neuer Bühnenb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335040" cy="1117800"/>
          </a:xfrm>
          <a:prstGeom prst="rect">
            <a:avLst/>
          </a:prstGeom>
          <a:ln w="0">
            <a:noFill/>
          </a:ln>
        </p:spPr>
      </p:pic>
      <p:sp>
        <p:nvSpPr>
          <p:cNvPr id="97" name="Line 20"/>
          <p:cNvSpPr/>
          <p:nvPr/>
        </p:nvSpPr>
        <p:spPr>
          <a:xfrm>
            <a:off x="7308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F0E-072D-49A8-8E93-BBEB8E14FF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C5D22-6BAC-4F7B-9EE4-D2E4932088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328B-0033-4BA8-8027-09D700FBF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erblö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unterteilt in 10 Kategorien (Pale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3241800" cy="2263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195640" y="2349360"/>
            <a:ext cx="216036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14972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öc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b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diert zum leichten Auffinden verwandter Blö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2592720" cy="128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77964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81D-32D3-4BE6-B72B-A0599701A3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11729-1816-4680-AC13-C758CA7813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beisp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atch-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tivationsbeispiel.s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ratch – Hallo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1E5-59E0-48FC-8104-23D5500233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F2CBA-2118-47E9-87A9-7CAD7F3F89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3359-F994-4452-B89B-08CD18161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AB1 Die Scratch-Programmierumgebung.pdf“ mit Datei „Einstiegsbeispiel.sb2“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adadad"/>
                </a:solidFill>
                <a:latin typeface="Arial"/>
              </a:rPr>
              <a:t>alternativ „AB1.2 Die Scratch-Programmierumgebung.pdf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759-3EB2-464B-B584-4B56859D3E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44E72-2295-4520-AC18-CB4ADE77EC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6:43:43Z</dcterms:created>
  <dc:creator>G. Birke</dc:creator>
  <dc:description/>
  <dc:language>en-US</dc:language>
  <cp:lastModifiedBy>G. Birke</cp:lastModifiedBy>
  <dcterms:modified xsi:type="dcterms:W3CDTF">2017-09-24T16:55:15Z</dcterms:modified>
  <cp:revision>17</cp:revision>
  <dc:subject/>
  <dc:title>Scratch</dc:title>
</cp:coreProperties>
</file>